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0EA3-7BEA-47D2-BB9E-5BFF4660C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3FED-00E1-4E7E-A3AD-C11697747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298C-875C-454E-8676-A4944D12D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7D5F-85A9-474B-8602-21B891787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9290-EDF1-4064-BE17-DC63EF69C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8DDB-69EB-40B9-BE72-C78B0B066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0E3A-2CAD-48E7-B443-AAE18B228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1F91-20E6-4B82-9421-D583663A1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3FC2-67A4-41FA-B714-D2D283FEF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7C71-6DCD-4429-8A40-71FDC55AF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E893-6DE2-47D5-8C12-A93894189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F7BD-C080-4263-A899-1B2FC1F6A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F1DB-0FF6-49D2-83D4-30FA53129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9F38-384A-4AE3-A294-A8E542550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86B6-F9B0-475C-86C2-0868CA0D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79F4-DC36-40C3-8ECE-0A3C53389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3099-A16E-4F04-BB4D-F63DDF854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9848-7A1D-498C-AA08-2A9389E0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66FE-1D6B-43ED-AFDB-D87AD5E4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5078-A0C9-4E49-9C05-08A58A81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FCC2-14D3-424C-B4D0-EE4B9A88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4CA8-415C-4094-9B4E-661C3D90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489E-C574-48C1-8C3B-C666BF58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D473-2889-4953-BF5D-FD1D9B39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176F-6560-4F67-B308-A687A655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9184-5C11-4750-9D75-F6B0186ACF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DThUKDM_Wtk&amp;p=B5A639B125CEFD17&amp;playnext=1&amp;index=6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olorado.edu/physics/2000/quantumzone/bohr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ght (simpl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imple Review for Complex Seni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mes Maxwell: studied other electromagnetic wa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ggested light was an EM w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s confirm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ght as a Parti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4647960" cy="3313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3"/>
          <a:stretch/>
        </p:blipFill>
        <p:spPr>
          <a:xfrm>
            <a:off x="4038480" y="2895480"/>
            <a:ext cx="4813560" cy="36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bert Einste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s Nobel prize for explaining that light is a particle AND a wave at the sam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s that light is carried in packets of different energi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d qua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ue has more energy than red no matter the intens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electrons are ejected for blue but not 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1523880" y="609480"/>
            <a:ext cx="609912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6172200" cy="12952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GBY?!?!?!?   WHY!?!?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y are counting on you to be stupid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1447920" y="2514600"/>
            <a:ext cx="59529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23880" y="1981080"/>
            <a:ext cx="693432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r works by absorption or reflection of specific wavelengths of l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en objects reflect green light and absorb all others.  Magenta objects absorb all green and reflect blue and 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1600200" y="1752480"/>
            <a:ext cx="641340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about the weird stuf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ine red light on a green object.  What do you s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) 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) gr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) orangey green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) bl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2286000" y="36576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GUMMY BEARS AND LASE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 Rad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is caused by high energy electrons that move from higher energy shells to lower energy shells.  The bundle of energy that they give off is called a “photon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hotons travel through a vacuum at 3x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/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7543800" y="5943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s of L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uminous sources are objects that emit light waves .  The sun is a luminous bo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luminated objects reflect or transmit light that is incident upon them.  The Moon is an illuminated bo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arent - transmits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lucent - transmit, but reflects some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aque - reflects all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ntity of L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ate at which energy is emitted from a luminous body is called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uminous flu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(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d in lumen. (l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100W light bulb emits 1750 lum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verse-Square Relation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830592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uminous Intens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lux that falls on 1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inside of a 1 meter radius sp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nsity is flux/4π and is measured in candela, (c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y Model of L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photons travel in straight line path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demonstrate the ways that light interacts with other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ve-Particle Du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tiaan Huygens- Dutch (1629-169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s a “wave model of light” to explain diffraction patter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ton- English (1643-172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s a “corpuscle (particle) model of light” in compet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ght as a W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omas Young’s Double Slit 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609480" y="2590920"/>
            <a:ext cx="3810240" cy="3924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3"/>
          <a:stretch/>
        </p:blipFill>
        <p:spPr>
          <a:xfrm>
            <a:off x="4724280" y="2666880"/>
            <a:ext cx="403884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4T15:38:26Z</dcterms:created>
  <dc:creator>Ed McTigue</dc:creator>
  <dc:description/>
  <dc:language>en-US</dc:language>
  <cp:lastModifiedBy>Ed McTigue</cp:lastModifiedBy>
  <cp:lastPrinted>2005-10-06T11:47:51Z</cp:lastPrinted>
  <dcterms:modified xsi:type="dcterms:W3CDTF">2010-09-24T18:22:48Z</dcterms:modified>
  <cp:revision>8</cp:revision>
  <dc:subject/>
  <dc:title>Light (simply)</dc:title>
</cp:coreProperties>
</file>