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AD26-3F77-43E6-8334-350EBB451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FA47-618A-4684-A541-80719963B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65A9-2A28-43FD-A62D-5E327CE76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79F6-2227-4119-94AF-3C85DD296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A643-2C5D-4FCE-9E51-EF8C2B5F9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9B4A-0BC0-4E64-B43D-6F0FA6738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FD3E-A6CC-462F-AC2D-D6DA15DFB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80E0-0AB4-4227-8724-D7ABA4944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D8E2-0C16-486A-B564-3CBFABF43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362A-5F59-4DAB-8061-AD7943AE3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B9EA-5ABE-4690-B0E8-52097BF61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0461-BF49-447A-80DA-641358FE1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F1D6-27F6-4825-9760-FC4DA8308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965-A69E-4244-AA4A-F2FF4860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889-650E-453D-85BC-2931D015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BA5-3754-4CD4-B777-B7784181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189-99E7-481B-889A-EBFC798F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227-0A7D-41F7-97E1-7CDC8C30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7CF-5708-4E7C-8A70-1D00BE50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7CD-6EF5-41B0-9470-1EF91BA6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065-C1F3-441C-81E5-B0DC33E9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C11-6DCF-46EA-9C57-AD31C0D3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E6F-B668-4B3B-A913-C090F9F7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59F-85A8-4E5A-9DB4-FF305D85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C42-ED1A-4C45-AE94-B46259F5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20FD-3177-4F77-9E4A-09DE1D105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DThUKDM_Wtk&amp;p=B5A639B125CEFD17&amp;playnext=1&amp;index=6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lorado.edu/physics/2000/quantumzone/boh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(simpl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mple Review for Complex Sen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Maxwell: studied other electromagnetic wa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light was an EM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confi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as a Parti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647960" cy="331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4038480" y="2895480"/>
            <a:ext cx="481356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s Nobel prize for explaining that light is a particle AND a wave at the sam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s that light is carried in packets of different energ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qu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has more energy than red no matter the int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electrons are ejected for blue but not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523880" y="609480"/>
            <a:ext cx="60991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6172200" cy="1295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GBY?!?!?!?   WHY!?!?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counting on you to be stupi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5952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works by absorption or reflection of specific wavelengths of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objects reflect green light and absorb all others.  Magenta objects absorb all green and reflect blue and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6413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about the weird stuf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ne red light on a green object.  What do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orangey gree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bl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0" y="3657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GUMMY BEARS AND LAS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 Rad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caused by high energy electrons that move from higher energy shells to lower energy shells.  The bundle of energy that they give off is called a “photo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hotons travel through a vacuum at 3x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/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43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minous sources are objects that emit light waves .  The sun is a luminous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minated objects reflect or transmit light that is incident upon them.  The Moon is an illuminated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arent - transmits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ucent - transmit, but reflects some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aque - reflects all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ity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te at which energy is emitted from a luminous body is call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minous flu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d in lumen. (l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00W light bulb emits 1750 lu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e-Square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minous Int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lux that falls on 1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inside of a 1 meter radius 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ity is flux/4π and is measured in candela, (c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y Model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photons travel in straight line pa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demonstrate the ways that light interacts with other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ve-Particle D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an Huygens- Dutch (1629-16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a “wave model of light” to explain diffraction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ton- English (1643-172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a “corpuscle (particle) model of light” in compet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as a 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Young’s Double Slit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3810240" cy="3924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4724280" y="2666880"/>
            <a:ext cx="403884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5:38:26Z</dcterms:created>
  <dc:creator>Ed McTigue</dc:creator>
  <dc:description/>
  <dc:language>en-US</dc:language>
  <cp:lastModifiedBy>Ed McTigue</cp:lastModifiedBy>
  <cp:lastPrinted>2005-10-06T11:47:51Z</cp:lastPrinted>
  <dcterms:modified xsi:type="dcterms:W3CDTF">2010-09-24T18:22:48Z</dcterms:modified>
  <cp:revision>8</cp:revision>
  <dc:subject/>
  <dc:title>Light (simply)</dc:title>
</cp:coreProperties>
</file>