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75C6-5398-40F8-B60E-A150A37A6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16E0-5FA2-4846-BE91-FABB295BE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95FD-F427-4A6A-AB67-D331A85A9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A24-A971-4B48-A967-E5C39142C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EBAD-90F2-4BC2-AC8F-51788A707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FBCF-8C1A-4879-8F1E-5EAC66829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9058-41CB-420D-AE46-62EA0B6CC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EE24-3A69-4176-901D-A4B4CD07F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183B-FF98-475D-9914-229C6765A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C7C5-DF41-4A60-B8D6-61615A0D1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7555-87A2-402F-8328-52E1DC285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088C-A94A-438F-9B82-61C22233E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C3BD-FDED-4136-9437-B0AC4291C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A67-D277-439A-A4D9-888764D6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8CD-D5BA-40E1-A2A2-1509449A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79C-8EE4-4DA1-8E2A-60C8DB63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77F-7044-43F2-AAAC-4942B6B1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6DA-F240-4F41-B742-C6EA3329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50D-3E9D-4D51-A14C-A60D53E1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03F-6582-4B56-AFB4-1E160901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3CE-50C3-4955-8D67-CE02BD5C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E7E-21F9-460B-9F3D-7C928548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9BC-0699-4758-B1AB-1C0EA06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781-2278-4525-8BEA-12D9A65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0C4-CFC1-48FC-AF39-A07510D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C7CC-E81F-4AFA-A0B0-EDF994C85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DThUKDM_Wtk&amp;p=B5A639B125CEFD17&amp;playnext=1&amp;index=6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lorado.edu/physics/2000/quantumzone/boh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(simp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Review for Complex Sen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Maxwell: studied other electromagnetic wa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ight was an EM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confi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Parti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647960" cy="331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4038480" y="2895480"/>
            <a:ext cx="481356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s Nobel prize for explaining that light is a particle AND a wave at the sa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s that light is carried in packets of different energ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qu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has more energy than red no matter the int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electrons are ejected for blue but not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60991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GBY?!?!?!?   WHY!?!?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counting on you to be stupi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5952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works by absorption or reflection of specific wavelengths of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objects reflect green light and absorb all others.  Magenta objects absorb all green and reflect blue and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413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bout the weird stuf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ne red light on a green object.  What do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orangey gree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bl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GUMMY BEARS AND LAS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 Rad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caused by high energy electrons that move from higher energy shells to lower energy shells.  The bundle of energy that they give off is called a “photo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hotons travel through a vacuum at 3x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/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43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minous sources are objects that emit light waves .  The sun is a luminous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objects reflect or transmit light that is incident upon them.  The Moon is an illuminated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t - transmits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ucent - transmit, but reflects some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aque - reflects all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y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at which energy is emitted from a luminous body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minous flu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in lumen. (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00W light bulb emits 1750 lu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e-Square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inous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ux that falls on 1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inside of a 1 meter radius 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 is flux/4π and is measured in candela, (c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y Model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photons travel in straight line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demonstrate the ways that light interacts with oth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ve-Particle D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an Huygens- Dutch (1629-16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wave model of light” to explain diffraction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ton- English (1643-17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corpuscle (particle) model of light” in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Young’s Double Slit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810240" cy="392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403884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5:38:26Z</dcterms:created>
  <dc:creator>Ed McTigue</dc:creator>
  <dc:description/>
  <dc:language>en-US</dc:language>
  <cp:lastModifiedBy>Ed McTigue</cp:lastModifiedBy>
  <cp:lastPrinted>2005-10-06T11:47:51Z</cp:lastPrinted>
  <dcterms:modified xsi:type="dcterms:W3CDTF">2010-09-24T18:22:48Z</dcterms:modified>
  <cp:revision>8</cp:revision>
  <dc:subject/>
  <dc:title>Light (simply)</dc:title>
</cp:coreProperties>
</file>