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B09-16E2-4493-A696-D131C5254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DB1A-CC99-4656-BCDF-294F28F3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C66E-693E-479A-B29B-BCD48D8E8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E95-FA19-4257-9529-C9F922103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E4F-1E25-4D8C-83BA-D014F237B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EDC-EF4D-446C-BB17-E493CED1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C6E-92FD-4ACA-ABF1-10B4A969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5DA-1F45-4070-949B-7817BB70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C02-30B0-44F4-9E6B-F6EEB4DF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5FD-F807-444D-91DC-14F2713F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E1D3-0D4A-4E24-84AC-AF1EF20C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8BF-8330-44BA-9B28-CD995038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7B7-FC9D-4BDC-A98F-07092867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790-FFF4-4BB8-9457-82471800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225-61CE-45BF-A24F-B6BE9DFC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8A5-7962-4430-98D7-C9C83746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D8C-F8BA-441C-8673-8F619CA6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0D9-D5E1-4F8E-B180-178251C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AEB-1354-4E29-86ED-F4B47AF1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1AE-4274-41F0-A912-06BA7F7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835D-8B2C-4502-A184-C570B72B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240-73FB-4507-99FF-915AFA93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831-F829-4A69-A692-F94C959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015B-8936-4C03-B407-C0233033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10F-6481-4AED-82AB-B6CD363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B3F8-9D58-4F71-AB8E-5A082A481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DThUKDM_Wtk&amp;p=B5A639B125CEFD17&amp;playnext=1&amp;index=6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olorado.edu/physics/2000/quantumzone/boh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(simp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Review for Complex Sen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Maxwell: studied other electromagnetic wa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light was an EM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confi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Parti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331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1356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s Nobel prize for explaining that light is a particle AND a wave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s that light is carried in packets of different energ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qu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has more energy than red no matter the intens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electrons are ejected for blue but not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1523880" y="609480"/>
            <a:ext cx="609912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172200" cy="1295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GBY?!?!?!?   WHY!?!?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ounting on you to be stupi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5952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works by absorption or reflection of specific wavelengths of l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objects reflect green light and absorb all others.  Magenta objects absorb all green and reflect blue and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41340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the weird stuf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ne red light on a green object.  What do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orangey gree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bl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0" y="3657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GUMMY BEARS AND LAS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 Rad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caused by high energy electrons that move from higher energy shells to lower energy shells.  The bundle of energy that they give off is called a “photon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hotons travel through a vacuum at 3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/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43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minous sources are objects that emit light waves .  The sun is a luminous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objects reflect or transmit light that is incident upon them.  The Moon is an illuminated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t - transmits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ucent - transmit, but reflects some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- reflects all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y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ate at which energy is emitted from a luminous body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minous flu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d in lumen. (l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00W light bulb emits 1750 lu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se-Square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lux that falls on 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inside of a 1 meter radius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ty is flux/4π and is measured in candela, (c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y Model of 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photons travel in straight line pa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monstrate the ways that light interacts with other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an Huygens- Dutch (1629-16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wave model of light” to explain diffraction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ton- English (1643-17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a “corpuscle (particle) model of light” in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as a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mas Young’s Double Slit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10240" cy="3924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4724280" y="2666880"/>
            <a:ext cx="40388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5:38:26Z</dcterms:created>
  <dc:creator>Ed McTigue</dc:creator>
  <dc:description/>
  <dc:language>en-US</dc:language>
  <cp:lastModifiedBy>Ed McTigue</cp:lastModifiedBy>
  <cp:lastPrinted>2005-10-06T11:47:51Z</cp:lastPrinted>
  <dcterms:modified xsi:type="dcterms:W3CDTF">2010-09-24T18:22:48Z</dcterms:modified>
  <cp:revision>8</cp:revision>
  <dc:subject/>
  <dc:title>Light (simply)</dc:title>
</cp:coreProperties>
</file>