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ct" ContentType="image/x-pict"/>
  <Override PartName="/ppt/media/image1.jpeg" ContentType="image/jpeg"/>
  <Override PartName="/ppt/media/image7.png" ContentType="image/png"/>
  <Override PartName="/ppt/media/image5.pct" ContentType="image/x-pict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8741-58FF-4186-A23D-285FF9AF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B4BE-AD47-4A58-B66D-A2E67CF65C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D46-6B1B-4067-BE8A-D28573480E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8F7F-399E-4D47-BC17-ADF45834E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87BE-757D-4026-87F0-DE518C0722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2449-327B-4208-A692-57D7C9BF0B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9279-4FCC-4FFC-BCFC-9645B7CDE1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179D-1ABC-4C9C-B589-BAABA11B9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610-666A-4E2C-9B1E-2EEDE320FB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0FC6-D767-40C3-A216-696086CFCB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5848-8524-4EB4-AABB-18A1F72659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3AAA-A78B-4F2F-ADD5-DA4CE5B07A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5EB7-5782-46EE-9318-7ED75B227D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B69-525A-4273-AD2D-0B327EE7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2DF-18CB-4D62-8CE1-4E5E2CB0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127-8DF9-460D-BE51-7BC798C1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045-2646-46BD-8F41-F9C5571E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D33-9CA2-4D80-8803-7798DF0F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134-BEBA-4F74-B1AA-01D3835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FBE-E376-4B31-827A-39064499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0DD-D2E1-48B6-B8F7-19856027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176-CDBE-46FC-A50A-D59E46B5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1B6-B231-4CB1-8309-24F27C7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D21-3769-4F16-BE02-CFB8681F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BAA-5CE4-486A-8519-E4DC922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98F1-7C1E-4F8A-A4E6-0A5C8D87D29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Lenses and Refra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and the changes it goes through from one medium to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in Lens Equation (does not address aberr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390840" y="2832120"/>
          <a:ext cx="1144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0840" y="283212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390840" y="2832120"/>
          <a:ext cx="114480" cy="16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0840" y="283212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800600" y="1752480"/>
          <a:ext cx="2971800" cy="165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1752480"/>
                    <a:ext cx="29718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609480" y="3733920"/>
            <a:ext cx="807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en the object is "in front of the len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real images are formed (inver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virtual images are formed (up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the lens is conv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the lens is div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verging 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5181480" y="990720"/>
            <a:ext cx="3581640" cy="2241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28600" y="83808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incident ray traveling parallel to the principal axis of a converging lens will refract through the lens and travel through the focal point on the opposite side of the l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incident ray traveling through the focal point on the way to the lens will refract through the lens and travel parallel to the principal ax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cident ray which passes through the center of the lens will in effect continue in the same direction that it had when it entered the l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iverging 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71500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cident ray traveling parallel to the principal axis of a diverging lens will refract through the lens and trav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line w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focal point (i.e., in a direction such that its extension will pass through the focal poin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cident ray traveling towards the focal point on the way to the lens will refract through the lens and travel parallel to the principal ax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cident ray which passes through the center of the lens will in effect continue in the same direction that it had when it entered the l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2767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λ = v/f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 changes  speed when entering new me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 frequency of the light does not change, the wavelength must also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length in a medium is shorter than in a vacu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ngles of: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idence - angle at which light strikes the surface.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ion - (no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) angle 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light leaves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face.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5257800" y="3276720"/>
            <a:ext cx="350532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ndex of Refra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=c/v speed of light in a vacuum compared speed of light in an objec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nell’s Law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, 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971800" y="2590920"/>
          <a:ext cx="1917720" cy="14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590920"/>
                    <a:ext cx="1917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272120" y="4343400"/>
          <a:ext cx="1449360" cy="14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72120" y="4343400"/>
                    <a:ext cx="144936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tal Internal Refle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ne of the critical angle is equal to the index of refraction of the refracting medium divided by the the index of refraction of the incident mediu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95480" y="2133720"/>
          <a:ext cx="76068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133720"/>
                    <a:ext cx="7606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ber Optic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769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traveling through a transparent fiber always hits the internal boundary of the optical fiber at an angle greater than the critical angle.  The light maintains its intensity over the distance of the fi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349360" cy="380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914400" y="5334120"/>
            <a:ext cx="7365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irag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029200" cy="394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inbow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495680" cy="320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4876920" y="22860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23:25:50Z</dcterms:created>
  <dc:creator>Ed McTigue</dc:creator>
  <dc:description/>
  <dc:language>en-US</dc:language>
  <cp:lastModifiedBy>Ed McTigue</cp:lastModifiedBy>
  <dcterms:modified xsi:type="dcterms:W3CDTF">2009-10-16T16:37:09Z</dcterms:modified>
  <cp:revision>9</cp:revision>
  <dc:subject/>
  <dc:title>Lenses and Refraction</dc:title>
</cp:coreProperties>
</file>