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ct" ContentType="image/x-pict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ct" ContentType="image/x-pict"/>
  <Override PartName="/ppt/media/image1.jpeg" ContentType="image/jpeg"/>
  <Override PartName="/ppt/media/image7.png" ContentType="image/png"/>
  <Override PartName="/ppt/media/image5.pct" ContentType="image/x-pict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D261-1C76-43CD-9E12-949488CC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402B-5D1A-4BF6-ADCB-A8A388F88D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977-439B-4C87-BC99-094C7377B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B842-73DA-4BB0-8DBE-9483EDBFB3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A46A-40A7-455F-AEDC-52A108D7B2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B27B-90D6-4E08-AFE7-5E7E2952A7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6AD2-5577-4A25-BED4-4E18F54CFF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04C5-5DDA-4E0E-AAB0-62DE899F52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CF33-C494-4AB2-B915-22D22D4482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3003-6A87-4190-99DF-858928051A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F7B-7D39-4051-8BC3-85CDF74F0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55EF-D9A4-4C46-BD2C-EDDB14B44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F46-6F07-46DF-835D-931B70E6E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77B-3AB1-43A9-9EA0-348A3BE9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801-3374-4AEF-8D28-AD32D3D1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BAB-1ED6-4F49-8517-7CF22A2B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3B6-CF60-4EC4-89B6-5C397623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E71-70F7-4AAC-A49F-44ED22A6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40C-210B-497A-B68C-6C431EE9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32A-078A-434D-9A7B-7B92FD7B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2E6-0C21-4ECF-A6CA-A2915D1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46E-9FB0-4BDA-83E0-FB1B0CBB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2D1-3C95-40AC-A891-6500499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6DC-C5E6-4062-8289-EC761CD7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BF3-4F78-46B0-8DB9-879BF0B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D54-3E5E-450E-961F-AD40FEF4536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ct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 and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and the changes it goes through from one medium to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hin Lens Equation (does not address aber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390840" y="2832120"/>
          <a:ext cx="114480" cy="1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90840" y="2832120"/>
                    <a:ext cx="1144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800600" y="1752480"/>
          <a:ext cx="2971800" cy="165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752480"/>
                    <a:ext cx="29718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7"/>
          <p:cNvSpPr/>
          <p:nvPr/>
        </p:nvSpPr>
        <p:spPr>
          <a:xfrm>
            <a:off x="609480" y="3733920"/>
            <a:ext cx="8077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en the object is "in front of the len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real images are formed (inver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virtual images are formed (up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posi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con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neg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when the lens is diver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3"/>
          <a:stretch/>
        </p:blipFill>
        <p:spPr>
          <a:xfrm>
            <a:off x="5181480" y="990720"/>
            <a:ext cx="3581640" cy="2241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228600" y="838080"/>
            <a:ext cx="4572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parallel to the principal axis of a converging lens will refract through the lens and travel through the focal point on the opposite side of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incident ray traveling through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iverging Lens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715000" cy="5410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･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parallel to the principal axis of a diverging lens will refract through the lens and trav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line wi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ocal point (i.e., in a direction such that its extension will pass through the focal point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cident ray traveling towards the focal point on the way to the lens will refract through the lens and travel parallel to the principal ax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cident ray which passes through the center of the lens will in effect continue in the same direction that it had when it entered the l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276720" cy="26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λ = v/f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ht changes  speed when entering new me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 frequency of the light does not change, the wavelength must also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length in a medium is shorter than in a vacu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ngles of: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idence - angle at which light strikes the 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action - (n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lection) angle 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light leaves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face.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dex of Refra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c/v speed of light in a vacuum compared speed of light in an objec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nell’s Law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, 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971800" y="2590920"/>
          <a:ext cx="191772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2590920"/>
                    <a:ext cx="1917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272120" y="4343400"/>
          <a:ext cx="1449360" cy="14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72120" y="4343400"/>
                    <a:ext cx="144936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tal Internal Refl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 θ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e of the critical angle is equal to the index of refraction of the refracting medium divided by the the index of refraction of the incident mediu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95480" y="2133720"/>
          <a:ext cx="7606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2133720"/>
                    <a:ext cx="760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ber Optic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8769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ght traveling through a transparent fiber always hits the internal boundary of the optical fiber at an angle greater than the critical angle.  The light maintains its intensity over the distance of the fib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349360" cy="38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914400" y="5334120"/>
            <a:ext cx="7365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rag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5029200" cy="394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inbow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4495680" cy="320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23:25:50Z</dcterms:created>
  <dc:creator>Ed McTigue</dc:creator>
  <dc:description/>
  <dc:language>en-US</dc:language>
  <cp:lastModifiedBy>Ed McTigue</cp:lastModifiedBy>
  <dcterms:modified xsi:type="dcterms:W3CDTF">2009-10-16T16:37:09Z</dcterms:modified>
  <cp:revision>9</cp:revision>
  <dc:subject/>
  <dc:title>Lenses and Refraction</dc:title>
</cp:coreProperties>
</file>