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1.jpeg" ContentType="image/jpeg"/>
  <Override PartName="/ppt/media/image7.png" ContentType="image/png"/>
  <Override PartName="/ppt/media/image5.pct" ContentType="image/x-pict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F4B-EF00-4135-BC2C-B8B4264B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679-028E-48FF-AD95-A074DF92A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6E91-11FD-4074-8D01-5AFC57151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EC0-5CA7-4A4C-8B60-596D7B09C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346-4792-4148-B039-72A105124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9AE-9693-41B2-A6FF-48188360D3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23B0-735B-475D-AE1C-7A0A0A198F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9874-3782-4DBF-988D-2B5E11EA3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E6F5-E99B-4E92-B081-B4390C18C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6ED-5EAB-4032-B3B6-E543F2CE4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956E-B8F6-4636-88E8-C8536A5319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E891-0C60-4BF8-9FC6-5A6F09C14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03C-029B-4F5C-BCF2-58E7AABC0A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1BC-9692-404B-BC12-E18DFC0E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6A2-5C90-44E6-9F12-94067D36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CD7-6A55-4061-A837-08862A61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355-0F06-4D01-8DDE-CBE89B26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A9B-0CB9-4B31-AE3C-1F641D5C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A1C-E836-4892-8A69-F9C261E4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107-6EFF-4BE7-AA07-8B5500B7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444-A719-4402-9362-C5B658EC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53D-14AD-4B79-B027-30C403E0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907-9E38-4BC7-B9E0-9ACB588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C18-0DB1-47C5-8EBB-4F491BF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61AE-6964-4C37-8A1D-CF03534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B140-0501-4169-8FE3-5B832D3D211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 and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and the changes it goes through from one medium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n Lens Equation (does not address aber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00600" y="1752480"/>
          <a:ext cx="2971800" cy="165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752480"/>
                    <a:ext cx="29718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609480" y="3733920"/>
            <a:ext cx="807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en the object is "in front of the len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real images are formed (inver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virtual images are formed (up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con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di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581640" cy="2241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28600" y="8380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parallel to the principal axis of a converging lens will refract through the lens and travel through the focal point on the opposite side of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through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i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1500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parallel to the principal axis of a diverging lens will refract through the lens and trav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line 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cal point (i.e., in a direction such that its extension will pass through the focal poin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towards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2767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λ = v/f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 changes  speed when entering new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 frequency of the light does not change, the wavelength must also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length in a medium is shorter than in a vacu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ngles of: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ce - angle at which light strikes the 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ion - (no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) angle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light leaves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ndex of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=c/v speed of light in a vacuum compared speed of light in an obje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nell’s Law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,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971800" y="2590920"/>
          <a:ext cx="1917720" cy="14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590920"/>
                    <a:ext cx="1917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272120" y="4343400"/>
          <a:ext cx="1449360" cy="14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72120" y="4343400"/>
                    <a:ext cx="14493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tal Internal Refl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e of the critical angle is equal to the index of refraction of the refracting medium divided by the the index of refraction of the incident mediu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95480" y="2133720"/>
          <a:ext cx="7606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133720"/>
                    <a:ext cx="760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ber Optic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traveling through a transparent fiber always hits the internal boundary of the optical fiber at an angle greater than the critical angle.  The light maintains its intensity over the distance of the fi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4936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914400" y="5334120"/>
            <a:ext cx="7365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irag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029200" cy="394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inbow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495680" cy="32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23:25:50Z</dcterms:created>
  <dc:creator>Ed McTigue</dc:creator>
  <dc:description/>
  <dc:language>en-US</dc:language>
  <cp:lastModifiedBy>Ed McTigue</cp:lastModifiedBy>
  <dcterms:modified xsi:type="dcterms:W3CDTF">2009-10-16T16:37:09Z</dcterms:modified>
  <cp:revision>9</cp:revision>
  <dc:subject/>
  <dc:title>Lenses and Refraction</dc:title>
</cp:coreProperties>
</file>