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1.jpeg" ContentType="image/jpeg"/>
  <Override PartName="/ppt/media/image7.png" ContentType="image/png"/>
  <Override PartName="/ppt/media/image5.pct" ContentType="image/x-pict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9F4-A938-4533-B193-F34F342C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B6A-6FC7-4110-8660-8305BC91E8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969-828F-4FD1-97D5-C4641ED17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D80-7DD5-4AFC-84CC-6C8DDDF953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FD7-38BF-446D-9A44-AA02633F6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AB8A-F767-4C92-AD8F-BB730AE46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1CB-7203-4C89-8635-20EAB51BF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052A-CE8B-4277-A886-AD6911BB7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B85-3169-4B27-9C72-18DDE996A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FA2B-712E-4837-8874-EA01AEDF9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E28B-393F-4C0D-9749-0B254E74C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DBFC-62E3-4EDE-8990-ACFD6A558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763-B81B-4421-895F-5063A1B99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EFB-5AA5-4CDD-98E0-90136E0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64B-D6F1-4CE5-A48E-26CA807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CF6-0C92-47AC-B8D1-F2047B4E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5F4-EF82-4FDF-8007-E9E10FDB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B37-309F-4EF7-8F0B-FD304A6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522-4361-41A0-B19D-52414B4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F3C-F2D4-4E23-AF0B-E7220614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B39-CE5A-42EF-A669-7A2A199A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55C-DA49-4233-801C-A27E7FE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75D-7E4F-478A-9F0E-B826268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274-89B1-4B53-A926-1E9062E4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FF3-6269-4D77-9D59-D844D1A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ED5-C94F-4ACC-96BE-68D350BAC29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 and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and the changes it goes through from one medium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n Lens Equation (does not address aber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1752480"/>
          <a:ext cx="2971800" cy="165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752480"/>
                    <a:ext cx="29718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609480" y="3733920"/>
            <a:ext cx="807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en the object is "in front of the len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real images are formed (inver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virtual images are formed (up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con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di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24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8380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parallel to the principal axis of a converging lens will refract through the lens and travel through the focal point on the opposite side of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through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i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150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parallel to the principal axis of a diverging lens will refract through the lens and trav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lin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cal point (i.e., in a direction such that its extension will pass through the focal poin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towards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2767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λ = v/f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 changes  speed when entering new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 frequency of the light does not change, the wavelength must also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 in a medium is shorter than in a vacu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ngles of: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ce - angle at which light strikes the 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ion - (n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) angle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light leaves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dex of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c/v speed of light in a vacuum compared speed of light in an obje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nell’s Law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,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971800" y="2590920"/>
          <a:ext cx="191772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90920"/>
                    <a:ext cx="1917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272120" y="4343400"/>
          <a:ext cx="144936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72120" y="4343400"/>
                    <a:ext cx="14493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tal Internal Refl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e of the critical angle is equal to the index of refraction of the refracting medium divided by the the index of refraction of the incident mediu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2133720"/>
          <a:ext cx="7606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133720"/>
                    <a:ext cx="760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ber Optic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traveling through a transparent fiber always hits the internal boundary of the optical fiber at an angle greater than the critical angle.  The light maintains its intensity over the distance of the fi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4936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7365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rag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029200" cy="39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inbow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2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3:25:50Z</dcterms:created>
  <dc:creator>Ed McTigue</dc:creator>
  <dc:description/>
  <dc:language>en-US</dc:language>
  <cp:lastModifiedBy>Ed McTigue</cp:lastModifiedBy>
  <dcterms:modified xsi:type="dcterms:W3CDTF">2009-10-16T16:37:09Z</dcterms:modified>
  <cp:revision>9</cp:revision>
  <dc:subject/>
  <dc:title>Lenses and Refraction</dc:title>
</cp:coreProperties>
</file>