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7.jpeg" ContentType="image/jpeg"/>
  <Override PartName="/ppt/media/image4.pct" ContentType="image/x-pict"/>
  <Override PartName="/ppt/media/image5.png" ContentType="image/png"/>
  <Override PartName="/ppt/media/image6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E318-516F-4DB1-A507-4D4693DA8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6C8E-12FC-4ABC-B2B4-500E968D6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094B-1F05-4E28-98B9-B9A2783C5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1339-92EA-4CA5-AF48-0C7E5A636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EA24-C887-4B61-BA63-52A98E899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BD8B-2C24-42E4-928F-9A6A4DA03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3183-0AB0-434B-9698-ACD7A2BA8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9B2E-41F6-4ED9-83DE-655023401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342A-4CF1-41A5-8153-EE031DFB0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67F2-F1DA-4FF0-8C7A-742BA0C81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E1DB-9E26-4AD0-9F1C-E531919B9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75AB-D243-4082-9BA4-61EB60767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DF80-64E9-47E5-B5C2-80937A062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0ED6-ED14-4008-AB72-303233726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A003-0A84-4E02-A00E-F5B9C4A6D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8F1F-5ACA-4E61-9B72-45085E7B3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02C-AC7E-4444-9839-261E2478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968-44F7-490C-84B3-82DE1E8E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E6AD-E3BB-43CC-AEC5-7723B86B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7FCA-39CD-4EC6-ACF1-C5AFA7DB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1247-70CF-4F10-8C25-5239013F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B76-AA37-4A6A-95A6-2535681B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9761-3DC5-4C94-824C-77A64BC4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EB6F-83B1-4C5A-BBC0-9B62C5F2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C31-E014-4595-B3FC-7F8537CB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9B23-9ADA-48C0-99CB-E2C8BDF8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9CE8-F394-4495-AB4D-33985811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DCE0-4C24-4E97-9586-0A7911FE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DE36-65F2-4E70-B09D-6ADB1DD58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914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hysics Tool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4960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Figures do not apply when counting or dealing with exact nu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zen = 12.000000000000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 = 3.1415926535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7696080" y="365760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80880" y="5818320"/>
            <a:ext cx="78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ach have an infinite number of significant dig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Results: (We look f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 in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signs of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gree of exactness in a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are close to a known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ll the results “agree” with a known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International Prototype M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14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able uncertainty of the length of No. 27 at temperatures between 20°C and 25°C was estimated by BIPM to lie between ±0.1 μm and ±0.2 μ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1981080"/>
            <a:ext cx="4444920" cy="38102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264960" y="6254640"/>
            <a:ext cx="849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Bureau of Weights and Measures (BIPM) in Sevres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uracy and Pr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te, not pre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e, not accu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te and pre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4648320" y="3048120"/>
            <a:ext cx="1828800" cy="1780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2"/>
          <a:stretch/>
        </p:blipFill>
        <p:spPr>
          <a:xfrm>
            <a:off x="4876920" y="49528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3"/>
          <a:stretch/>
        </p:blipFill>
        <p:spPr>
          <a:xfrm>
            <a:off x="4648320" y="1219320"/>
            <a:ext cx="182880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easuring, the last significant digit is usually an estimat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ble is 1.638 m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write it as: 1.63 ± .008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1.63 m ± .008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30400" y="5791320"/>
            <a:ext cx="79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ows where the error lies. We will deal with them 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ll them “deviati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860720" cy="4876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1 Mathematics and Phy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14440" y="18284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s depends on numerical results to support theoretical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Systeme International d’Un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ational System of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s units off of given base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3276720"/>
          <a:ext cx="8458200" cy="292572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ase 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ase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lv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 of a sub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 Cur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minous Int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ixes Used With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397160"/>
          <a:ext cx="9144000" cy="5121000"/>
        </p:xfrm>
        <a:graphic>
          <a:graphicData uri="http://schemas.openxmlformats.org/drawingml/2006/table">
            <a:tbl>
              <a:tblPr/>
              <a:tblGrid>
                <a:gridCol w="1219320"/>
                <a:gridCol w="1295280"/>
                <a:gridCol w="2895480"/>
                <a:gridCol w="1371600"/>
                <a:gridCol w="23623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efi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ymb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ultipli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ci. No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xamp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t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000000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tosecond (f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000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ometer (p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meter (n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0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gram 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g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amps (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i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imeter (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liter (d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meter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gram (M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,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meter (G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a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,000,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ahertz (TH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mensional Analys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“Multiplicative Identity” to change from one unit to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3429000"/>
          <a:ext cx="1752480" cy="111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429000"/>
                    <a:ext cx="175248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5"/>
          <p:cNvSpPr/>
          <p:nvPr/>
        </p:nvSpPr>
        <p:spPr>
          <a:xfrm>
            <a:off x="2867040" y="37544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733920" y="3352680"/>
          <a:ext cx="4064040" cy="12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352680"/>
                    <a:ext cx="40640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t Dig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 digits in the measurement of any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how precisi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ur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for significant Dig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ny non-zero number in a measurement is significant.  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456.2 m (4 s.f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ny zero between two s.f. is signific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604.301 s (6 s.f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Zeroes placed at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D OF A N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TER A DECIM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ignificant.  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43.200 cd (5 s.f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Zeroes that space a decimal are NOT significant. 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4000 A (1 s.f.) 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00eff"/>
                </a:solidFill>
                <a:latin typeface="Arial"/>
              </a:rPr>
              <a:t>.002 m (1 s.f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/Subtracting with S.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only add or subtract to the least precise measur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.89 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6.2 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0</a:t>
            </a:r>
            <a:r>
              <a:rPr b="0" lang="en-US" sz="3200" spc="-1" strike="noStrike">
                <a:solidFill>
                  <a:srgbClr val="ff0214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.1 m is the final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get rid of the </a:t>
            </a:r>
            <a:r>
              <a:rPr b="0" lang="en-US" sz="2500" spc="-1" strike="noStrike">
                <a:solidFill>
                  <a:srgbClr val="ff0214"/>
                </a:solidFill>
                <a:latin typeface="Arial"/>
              </a:rPr>
              <a:t>9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because it is added to an unknown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1295280" y="41148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ication with S.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nswer can only have as many s.f. as the multiplier with the least s.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 s.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1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 s.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nswer not 2.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goes for di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990720" y="4191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6:01:01Z</dcterms:created>
  <dc:creator>Ed McTigue</dc:creator>
  <dc:description/>
  <dc:language>en-US</dc:language>
  <cp:lastModifiedBy>Ed McTigue</cp:lastModifiedBy>
  <dcterms:modified xsi:type="dcterms:W3CDTF">2010-09-03T18:14:32Z</dcterms:modified>
  <cp:revision>5</cp:revision>
  <dc:subject/>
  <dc:title>Unit 1 </dc:title>
</cp:coreProperties>
</file>