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7.jpeg" ContentType="image/jpeg"/>
  <Override PartName="/ppt/media/image4.pct" ContentType="image/x-pict"/>
  <Override PartName="/ppt/media/image5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940-1450-4BBC-87EA-D4E1AC10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4E9F-E2F7-4286-A815-B3E5F7D3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CA83-34FF-49E4-A36C-71A58253E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5E96-06FC-41C0-9A88-872712A9E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EEC0-0C81-4A40-AEBC-3A386875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37FA-83C6-4A00-9A64-A24F48A7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42B5-FB52-49CE-9B82-B3A2E70E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9292-4DCF-42B6-9E1F-196B7AA3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013-9CD2-43C6-9413-849E33EAC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DE95-4651-476E-A5DB-34416AF9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924-A861-4FBD-9B71-20306672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B97-518F-4F9E-A566-C407833B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6117-FF78-4EA5-8561-E7918EB46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65DF-7FD9-4CDE-9F33-C5D9E3EAC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9EB-3791-4CD8-936C-F7B90A93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449B-80E5-4AAB-8EBE-78EDF812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555-15F3-4004-9BB4-E16DA39F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FFB-F16F-4595-82E1-6CDF1D6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C81-0965-4EDA-A8FA-0AF51A3E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8F6-EE04-43AB-9AAF-907DA0B9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DE8-60D1-4DFD-B41D-32E1BE02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F05-FAC4-427D-B699-71BF6CF4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80C-94D5-47AA-ADC5-DFB591DD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F0A-3D10-4AFF-B0E4-9B19BB41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F67-72D4-4F36-890F-6A5DA990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705-A9D3-46E6-A0B5-854BBA4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416-B52E-4C6E-AC62-09A9E027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816-D645-49B6-8057-BEEA5AF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BA5-3675-496E-A9FB-97451145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ysics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 do not apply when counting or dealing with exact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zen = 12.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 = 3.141592653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696080" y="36576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818320"/>
            <a:ext cx="78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ach have an infinite number of significant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Results: (We look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i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ign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gree of exactness in 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re close to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the results “agree” with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tional Prototype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le uncertainty of the length of No. 27 at temperatures between 20°C and 25°C was estimated by BIPM to lie between ±0.1 μm and ±0.2 μ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444492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64960" y="6254640"/>
            <a:ext cx="84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ureau of Weights and Measures (BIPM) in Sevre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, 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, 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1828800" cy="178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4876920" y="4952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828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asuring, the last significant digit is usually an estim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1.638 m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it as: 1.63 ± .008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1.63 m ± .008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0400" y="5791320"/>
            <a:ext cx="79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where the error lies. We will deal with them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em “devi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860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1 Mathematics and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depends on numerical results to support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ysteme International d’Un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System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nits off of given bas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276720"/>
          <a:ext cx="8458200" cy="29257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a 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Used With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97160"/>
          <a:ext cx="9144000" cy="5121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2895480"/>
                <a:gridCol w="1371600"/>
                <a:gridCol w="2362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ltipl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i. No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amp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second (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meter (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meter (n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gram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ps (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meter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iter (d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eter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gram (M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meter (G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hertz (T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mensional Analy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Multiplicative Identity” to change from one unit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3429000"/>
          <a:ext cx="17524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17524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5"/>
          <p:cNvSpPr/>
          <p:nvPr/>
        </p:nvSpPr>
        <p:spPr>
          <a:xfrm>
            <a:off x="2867040" y="375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352680"/>
          <a:ext cx="40640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406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digits in the measurement of an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how precis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y non-zero number in a measurement is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56.2 m (4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 zero between two s.f.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604.301 s (6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Zeroes placed a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D OF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 A DEC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3.200 cd (5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eroes that space a decimal are NOT significant.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000 A (1 s.f.)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.002 m (1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/Subtracting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add or subtract to the least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89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6.2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1 m is the final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get rid of the </a:t>
            </a:r>
            <a:r>
              <a:rPr b="0" lang="en-US" sz="25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it is added to an unknow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2952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only have as many s.f. as the multiplier with the least s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swer not 2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goes f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9907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01:01Z</dcterms:created>
  <dc:creator>Ed McTigue</dc:creator>
  <dc:description/>
  <dc:language>en-US</dc:language>
  <cp:lastModifiedBy>Ed McTigue</cp:lastModifiedBy>
  <dcterms:modified xsi:type="dcterms:W3CDTF">2010-09-03T18:14:32Z</dcterms:modified>
  <cp:revision>5</cp:revision>
  <dc:subject/>
  <dc:title>Unit 1 </dc:title>
</cp:coreProperties>
</file>