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7.jpeg" ContentType="image/jpeg"/>
  <Override PartName="/ppt/media/image4.pct" ContentType="image/x-pict"/>
  <Override PartName="/ppt/media/image5.png" ContentType="image/png"/>
  <Override PartName="/ppt/media/image6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BD0E-4985-4A70-A04D-D6799086F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08E4-76DA-46CE-AC44-9FFF79B83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626A-C628-4558-820D-78656F71F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A98B-0E80-4598-8DCA-2ADBE8440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A7E8-AED0-4D12-82BE-EA2F42AFC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79BA-B07A-4068-A3B9-335D3F3FF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4FD2-78A1-4AE5-BA9D-9136CED0C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85F2-7B55-41E3-B839-90896C16A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F351-E451-4355-AA88-DF419BF8A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6ACE-A904-445E-B9A1-F6F442BBB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E63C-0293-4E95-ABF1-74379451F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E8CB-E4F1-4BA8-9361-0815BAE6A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95C1-A3AE-4F05-8829-5B075A72A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E8E9-8356-4C7F-B945-729499A8F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BB38-1FD2-4BF7-8B15-7B4ED8413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D0FD-D5BE-41C9-8D05-1948E595A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4B7-AAD9-4004-BE19-DC37B612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88D-0451-4B3D-BFC4-3BD20DF9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CB6-6380-4517-99EB-9928AC5D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818-D562-47DB-8B4C-4A920A1D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D85-313D-4835-9122-7C893760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6F3-DB49-445F-B348-5281D96E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3B2-CFE5-49D3-B2B5-FDD87E63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1C4-02D7-4AA4-A33F-55CF7992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61B-A141-4BDA-9853-455D5D54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73A-FFB2-4A90-A9EB-0B9A5083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4F0-AE4A-487F-B421-DFA570B0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1CC-25B5-422C-9E42-4E90E219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538F-B3CB-4DB8-AE54-1790803FF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ysics Tool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4960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 do not apply when counting or dealing with exact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zen = 12.000000000000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 = 3.1415926535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7696080" y="36576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880" y="5818320"/>
            <a:ext cx="78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ach have an infinite number of significant dig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Results: (We look f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in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signs of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gree of exactness in a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are close to a known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ll the results “agree” with a known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ternational Prototype 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le uncertainty of the length of No. 27 at temperatures between 20°C and 25°C was estimated by BIPM to lie between ±0.1 μm and ±0.2 μ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1981080"/>
            <a:ext cx="4444920" cy="3810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264960" y="6254640"/>
            <a:ext cx="849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Bureau of Weights and Measures (BIPM) in Sevre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uracy and Pr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, not 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e, not accu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 and 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1828800" cy="1780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4876920" y="4952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3"/>
          <a:stretch/>
        </p:blipFill>
        <p:spPr>
          <a:xfrm>
            <a:off x="4648320" y="1219320"/>
            <a:ext cx="182880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easuring, the last significant digit is usually an estim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is 1.638 m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write it as: 1.63 ± .008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1.63 m ± .008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30400" y="5791320"/>
            <a:ext cx="79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ws where the error lies. We will deal with them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l them “devia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86072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1 Mathematics and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1444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s depends on numerical results to support theoretical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ysteme International d’Un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tional System of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s units off of given bas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3276720"/>
          <a:ext cx="8458200" cy="29257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se 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se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of a sub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inous Int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ixes Used With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397160"/>
          <a:ext cx="9144000" cy="512100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  <a:gridCol w="2895480"/>
                <a:gridCol w="1371600"/>
                <a:gridCol w="2362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efi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ymb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ultipli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ci. No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xamp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t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tosecond (f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meter (p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meter (n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gram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g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amps (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meter 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liter (d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meter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gram (M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meter (G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hertz (TH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mensional Analys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“Multiplicative Identity” to change from one unit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3429000"/>
          <a:ext cx="1752480" cy="111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17524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5"/>
          <p:cNvSpPr/>
          <p:nvPr/>
        </p:nvSpPr>
        <p:spPr>
          <a:xfrm>
            <a:off x="2867040" y="3754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733920" y="3352680"/>
          <a:ext cx="4064040" cy="12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352680"/>
                    <a:ext cx="4064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t Dig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 digits in the measurement of any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how precis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u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significant Dig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y non-zero number in a measurement is significant. 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56.2 m (4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y zero between two s.f. is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604.301 s (6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Zeroes placed a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D OF A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 A DECIM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ignificant. 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3.200 cd (5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eroes that space a decimal are NOT significant.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000 A (1 s.f.)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.002 m (1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/Subtracting with S.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only add or subtract to the least precise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.89 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6.2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0</a:t>
            </a:r>
            <a:r>
              <a:rPr b="0" lang="en-US" sz="3200" spc="-1" strike="noStrike">
                <a:solidFill>
                  <a:srgbClr val="ff0214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1 m is the final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get rid of the </a:t>
            </a:r>
            <a:r>
              <a:rPr b="0" lang="en-US" sz="2500" spc="-1" strike="noStrike">
                <a:solidFill>
                  <a:srgbClr val="ff0214"/>
                </a:solidFill>
                <a:latin typeface="Arial"/>
              </a:rPr>
              <a:t>9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ecause it is added to an unknown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1295280" y="41148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ication with S.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nswer can only have as many s.f. as the multiplier with the least s.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 s.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1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 s.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nswer not 2.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goes for di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990720" y="4191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6:01:01Z</dcterms:created>
  <dc:creator>Ed McTigue</dc:creator>
  <dc:description/>
  <dc:language>en-US</dc:language>
  <cp:lastModifiedBy>Ed McTigue</cp:lastModifiedBy>
  <dcterms:modified xsi:type="dcterms:W3CDTF">2010-09-03T18:14:32Z</dcterms:modified>
  <cp:revision>5</cp:revision>
  <dc:subject/>
  <dc:title>Unit 1 </dc:title>
</cp:coreProperties>
</file>