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7.jpeg" ContentType="image/jpeg"/>
  <Override PartName="/ppt/media/image4.pct" ContentType="image/x-pict"/>
  <Override PartName="/ppt/media/image5.png" ContentType="image/png"/>
  <Override PartName="/ppt/media/image6.jpeg" ContentType="image/jpeg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F857-6EF1-4AB6-AE4D-0892A6FE9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3FF5-BFCC-469F-8CD5-9EF04918C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C2FD-6285-47E9-AF32-0232B8922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AFF4-CB6C-41BA-9DD9-1D08A2012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6079-DF12-4D20-A559-E30AA3EEA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6C08-4499-4140-ACDA-CF4DD4FB0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6C9C-9483-4854-BACE-18808C7C1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0C54-3D6A-44B5-84A5-F9B72E421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1042-39E4-43E9-87D9-3AD6CEB80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0940-4FAE-4FB2-9465-127320B0B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5E70-5976-474C-8CF0-49AD8F1EA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4B2E-D696-46A7-89F3-7EB3546F8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F3DD-5F1D-41DF-A9B9-881627367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F691-B032-4F70-9E7D-8E8E294E8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9164-E093-4C95-AF5F-BE3FB290F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5DA4-23FF-48B4-95ED-979D933EE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A52F-BECA-41A7-AE9E-1E0ABFE5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D5CE-4BCB-40F9-9D1C-4CB721FC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8437-27A2-456D-A9B6-4D26C08B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D367-DF3D-410B-BEE7-FF400705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BCD2-33B8-42C0-9D8F-1C32E6AF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0455-A47C-4058-996F-9B664D94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EDC1-4BE5-4910-BD13-25AE5DA2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8281-B39B-4AD2-9864-DA0FB8D8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FF86-D429-4B89-8A47-7B45E3FF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9642-9F6C-414F-B06C-2B3B4B34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2710-1C1F-46D1-9E9F-E55D1CDB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06B3-44AE-4D22-AB04-37CC1CE6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0316-5C80-42D9-842F-E1F69C51C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914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hysics Toolk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4960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Figures do not apply when counting or dealing with exact nu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ozen = 12.000000000000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π = 3.1415926535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7696080" y="365760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80880" y="5818320"/>
            <a:ext cx="78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ach have an infinite number of significant dig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ng Results: (We look f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in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signs of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gree of exactness in a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 are close to a known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ll the results “agree” with a known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International Prototype M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14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le uncertainty of the length of No. 27 at temperatures between 20°C and 25°C was estimated by BIPM to lie between ±0.1 μm and ±0.2 μ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1981080"/>
            <a:ext cx="4444920" cy="38102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264960" y="6254640"/>
            <a:ext cx="849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Bureau of Weights and Measures (BIPM) in Sevres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uracy and Prec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te, not pre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e, not accu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te and pre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4648320" y="3048120"/>
            <a:ext cx="1828800" cy="1780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2"/>
          <a:stretch/>
        </p:blipFill>
        <p:spPr>
          <a:xfrm>
            <a:off x="4876920" y="49528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3"/>
          <a:stretch/>
        </p:blipFill>
        <p:spPr>
          <a:xfrm>
            <a:off x="4648320" y="1219320"/>
            <a:ext cx="182880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easuring, the last significant digit is usually an estimat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ble is 1.638 m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write it as: 1.63 ± .008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1.63 m ± .008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30400" y="5791320"/>
            <a:ext cx="79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ows where the error lies. We will deal with them 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ll them “deviatio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860720" cy="4876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1 Mathematics and Phy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14440" y="18284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s depends on numerical results to support theoretical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Systeme International d’Un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ational System of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s units off of given base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80880" y="3276720"/>
          <a:ext cx="8458200" cy="292572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ase 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ase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lv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 of a sub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 Cur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minous Inten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ixes Used With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397160"/>
          <a:ext cx="9144000" cy="5121000"/>
        </p:xfrm>
        <a:graphic>
          <a:graphicData uri="http://schemas.openxmlformats.org/drawingml/2006/table">
            <a:tbl>
              <a:tblPr/>
              <a:tblGrid>
                <a:gridCol w="1219320"/>
                <a:gridCol w="1295280"/>
                <a:gridCol w="2895480"/>
                <a:gridCol w="1371600"/>
                <a:gridCol w="23623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efi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ymb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ultipli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ci. No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xamp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to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00000000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tosecond (f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o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00000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ometer (p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00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meter (n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gram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g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amps (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i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imeter (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liter (d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meter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gram (M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,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meter (G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a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,000,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ahertz (TH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mensional Analys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“Multiplicative Identity” to change from one unit to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62120" y="3429000"/>
          <a:ext cx="1752480" cy="111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429000"/>
                    <a:ext cx="175248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5"/>
          <p:cNvSpPr/>
          <p:nvPr/>
        </p:nvSpPr>
        <p:spPr>
          <a:xfrm>
            <a:off x="2867040" y="37544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733920" y="3352680"/>
          <a:ext cx="4064040" cy="121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352680"/>
                    <a:ext cx="40640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ificant Dig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 digits in the measurement of any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show precisi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cur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for significant Dig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ny non-zero number in a measurement is significant.  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456.2 m (4 s.f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ny zero between two s.f. is signific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604.301 s (6 s.f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Zeroes placed at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D OF A N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FTER A DECIM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ignificant.  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43.200 cd (5 s.f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Zeroes that space a decimal are NOT significant. 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4000 A (1 s.f.) 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.002 m (1 s.f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/Subtracting with S.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only add or subtract to the least precise measur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.89 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6.2 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.0</a:t>
            </a:r>
            <a:r>
              <a:rPr b="0" lang="en-US" sz="3200" spc="-1" strike="noStrike">
                <a:solidFill>
                  <a:srgbClr val="ff0214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.1 m is the final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get rid of the </a:t>
            </a:r>
            <a:r>
              <a:rPr b="0" lang="en-US" sz="2500" spc="-1" strike="noStrike">
                <a:solidFill>
                  <a:srgbClr val="ff0214"/>
                </a:solidFill>
                <a:latin typeface="Arial"/>
              </a:rPr>
              <a:t>9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because it is added to an unknown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1295280" y="41148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ication with S.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nswer can only have as many s.f. as the multiplier with the least s.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 s.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1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 s.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nswer not 2.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goes for di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990720" y="4191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6:01:01Z</dcterms:created>
  <dc:creator>Ed McTigue</dc:creator>
  <dc:description/>
  <dc:language>en-US</dc:language>
  <cp:lastModifiedBy>Ed McTigue</cp:lastModifiedBy>
  <dcterms:modified xsi:type="dcterms:W3CDTF">2010-09-03T18:14:32Z</dcterms:modified>
  <cp:revision>5</cp:revision>
  <dc:subject/>
  <dc:title>Unit 1 </dc:title>
</cp:coreProperties>
</file>