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FFEB-ED1A-4582-8475-8C68E38F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8686-27B0-43CD-97B1-0C24BFCB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A723-73BF-46A6-AE64-B0FB312C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FA55-098B-4FD3-AA46-5CDB4744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1DB-ADC7-4BF2-AE05-C083E529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29D4-DB61-453C-9E95-00DA0A07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48B4-28F2-433F-851A-D7F60BA8D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7334-F877-470D-824B-1BB34ACE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A539-702F-41E2-B966-DC20FC8D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693D-A744-482B-A7F0-C5219CECF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66D4-E692-40A4-8160-E3E2387F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E54-0D94-4CC7-BA5C-DE7A315C8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7797-039D-49E3-8D01-D3E5F698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D741-4680-403D-B7FA-08332FB6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2BEC-BE43-40B3-B2AE-D02174AF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3B99-FE93-4440-B64E-E40AB4D90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74E-B380-40F1-AB79-2208BFD4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A25-7CD7-46B8-A34C-55380CE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BB0-689E-4BCF-87E4-50362C06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EC3-FEC6-4C14-A2C6-D8AA7C69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C51-CA23-49D9-B5A5-3AC0CA68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E19-B0F7-46A9-A218-B2F20786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B2F-D617-42E7-AD3B-89F0FD3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BA52-B41B-4CF4-9916-F31B6645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6CA-C757-49B6-97D3-D14B40E3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A99-2CE2-4D97-8BDC-BBC7C4D0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BD7-69CA-417F-AFA3-3F3EAD5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D3A-97FB-4C28-AD54-73E7E28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386B-72B8-4639-8664-15D873DE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ysics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 do not apply when counting or dealing with exact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zen = 12.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 = 3.141592653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696080" y="36576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81832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ach have an infinite number of significa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Results: (We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i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ign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f exactness in 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re close to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results “agree” with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tional Prototype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le uncertainty of the length of No. 27 at temperatures between 20°C and 25°C was estimated by BIPM to lie between ±0.1 μm and ±0.2 μ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444492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64960" y="6254640"/>
            <a:ext cx="84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ureau of Weights and Measures (BIPM) in Sevre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, 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, 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1828800" cy="178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4876920" y="4952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828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asuring, the last significant digit is usually an estim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1.638 m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it as: 1.63 ± .008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.63 m ± .008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0400" y="5791320"/>
            <a:ext cx="79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where the error lies. We will deal with them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em “devi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860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1 Mathematics and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depends on numerical results to support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ysteme International d’Un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System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nits off of given bas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276720"/>
          <a:ext cx="8458200" cy="29257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a 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Used With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97160"/>
          <a:ext cx="9144000" cy="5121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2895480"/>
                <a:gridCol w="1371600"/>
                <a:gridCol w="2362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ltipl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i. No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second (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meter (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meter (n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gram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ps (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meter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iter (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eter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gram (M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meter (G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hertz (T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mensional 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Multiplicative Identity” to change from one unit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429000"/>
          <a:ext cx="1752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1752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5"/>
          <p:cNvSpPr/>
          <p:nvPr/>
        </p:nvSpPr>
        <p:spPr>
          <a:xfrm>
            <a:off x="2867040" y="375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352680"/>
          <a:ext cx="40640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406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digits in the measurement of an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how preci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y non-zero number in a measurement is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56.2 m (4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 zero between two s.f.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604.301 s (6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Zeroes placed a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D OF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A DEC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3.200 cd (5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eroes that space a decimal are NOT significant.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000 A (1 s.f.)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.002 m (1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/Subtracting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add or subtract to the least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89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6.2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1 m is the final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get rid of the </a:t>
            </a:r>
            <a:r>
              <a:rPr b="0" lang="en-US" sz="25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it is added to an unkn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only have as many s.f. as the multiplier with the least s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swer not 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goes f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9907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01:01Z</dcterms:created>
  <dc:creator>Ed McTigue</dc:creator>
  <dc:description/>
  <dc:language>en-US</dc:language>
  <cp:lastModifiedBy>Ed McTigue</cp:lastModifiedBy>
  <dcterms:modified xsi:type="dcterms:W3CDTF">2010-09-03T18:14:32Z</dcterms:modified>
  <cp:revision>5</cp:revision>
  <dc:subject/>
  <dc:title>Unit 1 </dc:title>
</cp:coreProperties>
</file>